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A11F-4A2B-4A15-B999-4F7D73B3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CE3-E3A4-499E-9ADF-659E5341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104-841B-406B-B5DE-E7727687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E239-5E97-433A-9F77-AADBA773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534-B0B4-463D-AD69-385FFB7C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1D34-FBCA-43C8-9D73-3AC2B1B4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E6E2-3380-4853-880F-B833FCC8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6162-6D3A-4E72-849F-AC3AAF8C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979-49C6-479B-80FC-8F761246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EB39-B89C-4F4C-AF49-BDD284EC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DBB7-2462-4AF3-B90B-C0195907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0F59-943D-4001-9E24-2B32EF57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60DB0-BA04-4811-A83A-FDB94DFAC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3080" y="228600"/>
            <a:ext cx="3771720" cy="3657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36960" y="114480"/>
            <a:ext cx="3657600" cy="3771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064200" y="3886200"/>
            <a:ext cx="3908520" cy="3673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557360" y="3970440"/>
            <a:ext cx="3771720" cy="354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280" y="201600"/>
            <a:ext cx="1371600" cy="25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43280" y="34452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7640" y="408924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43280" y="34452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92720" y="426888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18:45Z</dcterms:created>
  <dc:creator>Brian Yandell</dc:creator>
  <dc:description/>
  <dc:language>en-US</dc:language>
  <cp:lastModifiedBy/>
  <cp:revision>0</cp:revision>
  <dc:subject/>
  <dc:title/>
</cp:coreProperties>
</file>