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43E-8BC6-4887-AACB-5C4FFD5C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CC9-4184-4D9C-8111-06526DCF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BB7-3DCE-4D76-A383-51132824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93B-523F-417C-BD85-5862C1C4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386-1909-4FF4-BA0F-B7E4ACFC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15E-3981-466B-BBF5-9050E5D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F6B-CFD0-47E8-ADBC-70942617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9CB-B3EC-43FA-9AC9-8382C0A4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324-8C04-4418-8779-3DFF8D64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B3C-1200-432D-A0CF-A1F46AB3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183-DFF6-40AE-B5DA-C15A100C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9D6-4CF7-44CA-8B65-CE503BA6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AFA0D-F8B1-454E-90FE-F7ACAB0EC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36960" y="114480"/>
            <a:ext cx="3657600" cy="37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64200" y="3886200"/>
            <a:ext cx="39085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57360" y="397044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80" y="201600"/>
            <a:ext cx="137160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408924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26888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18:45Z</dcterms:created>
  <dc:creator>Brian Yandell</dc:creator>
  <dc:description/>
  <dc:language>en-US</dc:language>
  <cp:lastModifiedBy/>
  <cp:revision>0</cp:revision>
  <dc:subject/>
  <dc:title/>
</cp:coreProperties>
</file>