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58C-C05F-4F42-93E9-CF7E7F22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9A2-05AD-4019-86FB-B577A21A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989-2DDF-46DF-935E-495CC67C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71C4-71FD-42E4-B207-D4475228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335-AC0C-4E13-BD5B-F061F854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B9F-277A-4D2D-A942-79BFA9E4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FCD-D3D5-4136-882F-ECFB1F5E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818A-64DF-404F-A2B0-F418D2CB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265-8671-4C29-8C98-DE4CE4A9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7C97-278B-415C-8D5B-290C51F4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2C1-D01B-4992-BCB5-171B0764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995-9CB1-450B-9CCD-2E55FA46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B861C-2E2D-482C-A7CC-58E5A4AE2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3080" y="2286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36960" y="114480"/>
            <a:ext cx="3657600" cy="377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64200" y="3886200"/>
            <a:ext cx="3908520" cy="3673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557360" y="3970440"/>
            <a:ext cx="3771720" cy="354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280" y="201600"/>
            <a:ext cx="137160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43280" y="34452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7640" y="408924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3280" y="34452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92720" y="426888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18:45Z</dcterms:created>
  <dc:creator>Brian Yandell</dc:creator>
  <dc:description/>
  <dc:language>en-US</dc:language>
  <cp:lastModifiedBy/>
  <cp:revision>0</cp:revision>
  <dc:subject/>
  <dc:title/>
</cp:coreProperties>
</file>