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5DBF-9901-437B-88AF-2ACD7138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712-B147-47C4-A785-41620146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EC3-B231-40DD-8491-053B9EA4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A95-9383-4864-82D8-6F54D6FDF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73B8-E7A6-4985-AD96-6F448CA2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8844-C2D5-49F2-8FE4-716B8673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7A1-B498-4043-A722-7C5D6884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A34-BDC6-4DCE-8622-C10102A2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B05-00D1-4505-A48B-ABB3C079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34C-9031-439F-875C-4A4EAD2F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843-324C-40E9-BAAA-E08AB1D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481-40D8-4FAC-9821-B4B96E71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AFA79-EDFA-4759-8F67-952D114E1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3080" y="2286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36960" y="114480"/>
            <a:ext cx="3657600" cy="377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064200" y="3886200"/>
            <a:ext cx="3908520" cy="3673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557360" y="3970440"/>
            <a:ext cx="3771720" cy="354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280" y="201600"/>
            <a:ext cx="137160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7640" y="408924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3280" y="34452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2720" y="4268880"/>
            <a:ext cx="1371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8:18:45Z</dcterms:created>
  <dc:creator>Brian Yandell</dc:creator>
  <dc:description/>
  <dc:language>en-US</dc:language>
  <cp:lastModifiedBy/>
  <cp:revision>0</cp:revision>
  <dc:subject/>
  <dc:title/>
</cp:coreProperties>
</file>