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776-A151-4A06-B0D6-EA06F7E8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9D4-03C8-4F53-A4C1-E9464937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BDA-E38A-4A5E-A123-B64BD762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B7BF-6E0A-48E4-9906-59B832EA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1C0-5591-4D2E-BBF0-B6826698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E66-E8C6-4ABE-ADC9-E5A62905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182-7F56-4067-8B85-BDA0D398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3BF-097C-43AA-BC47-55F6B93B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BAB-8D07-4760-930E-77B12787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F94-61D4-4C49-A44C-22F48012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AD5-7284-4D96-95E0-1B1D0CCC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49A-E2BA-4479-93D9-7CCE697E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E66BD-44AE-46F0-BF68-6379298FF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3080" y="2286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36960" y="114480"/>
            <a:ext cx="3657600" cy="377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64200" y="3886200"/>
            <a:ext cx="3908520" cy="3673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557360" y="3970440"/>
            <a:ext cx="3771720" cy="354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280" y="201600"/>
            <a:ext cx="137160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7640" y="408924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426888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18:45Z</dcterms:created>
  <dc:creator>Brian Yandell</dc:creator>
  <dc:description/>
  <dc:language>en-US</dc:language>
  <cp:lastModifiedBy/>
  <cp:revision>0</cp:revision>
  <dc:subject/>
  <dc:title/>
</cp:coreProperties>
</file>