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659-239A-4065-AD74-103EBEA1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7B2-F021-4D49-87CA-66B7D03D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814-4E05-48FC-9CA1-3DF06113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0B5-AFF0-4089-B8B2-DDB6E4A4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D3B-B489-4567-968F-4AB392D1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AAF-3BB4-4493-834C-CAF7F0D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8BA-4094-4048-88A6-1656954D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0BC-4D46-4E87-9BB4-83E57EC5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993-591B-4BF0-B128-DC8249F8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6DB-2393-4B80-B76C-7EE6FEC3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EC3-3C83-4510-801E-04243777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B27-D360-4B48-9DFD-B2759DC6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3EB85-B8FA-4E03-8660-292C13EAC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2286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36960" y="114480"/>
            <a:ext cx="3657600" cy="37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64200" y="3886200"/>
            <a:ext cx="390852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557360" y="3970440"/>
            <a:ext cx="3771720" cy="354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280" y="201600"/>
            <a:ext cx="137160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640" y="408924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26888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18:45Z</dcterms:created>
  <dc:creator>Brian Yandell</dc:creator>
  <dc:description/>
  <dc:language>en-US</dc:language>
  <cp:lastModifiedBy/>
  <cp:revision>0</cp:revision>
  <dc:subject/>
  <dc:title/>
</cp:coreProperties>
</file>