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003-6E5A-4F8E-AAD2-0BBE8A61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3820-E631-4FD3-80DF-50AFFC7C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F42-18E6-408C-828D-4E7A8660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14D-35D0-4AE4-B547-36173320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D5E-5711-4C81-A750-25A5BB21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958-EC74-40C6-8011-C812742A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B7D-8A3A-446F-8B92-26007F10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9F9-063D-4F7E-ACC3-76E3678A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8677-9A9F-4873-9932-13E8E9BA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996-C434-4A28-9504-6079AFA8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1CC7-BA89-44F8-9F21-F10E94CD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F71B-4152-48F5-AEA2-C3E7648C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C2DE4-9491-43A5-B8C8-347E5E18E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3080" y="228600"/>
            <a:ext cx="3771720" cy="3657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36960" y="114480"/>
            <a:ext cx="3657600" cy="377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64200" y="3886200"/>
            <a:ext cx="3908520" cy="3673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557360" y="3970440"/>
            <a:ext cx="3771720" cy="354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280" y="201600"/>
            <a:ext cx="137160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43280" y="34452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7640" y="408924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43280" y="34452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92720" y="426888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18:45Z</dcterms:created>
  <dc:creator>Brian Yandell</dc:creator>
  <dc:description/>
  <dc:language>en-US</dc:language>
  <cp:lastModifiedBy/>
  <cp:revision>0</cp:revision>
  <dc:subject/>
  <dc:title/>
</cp:coreProperties>
</file>